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7CAE-91FC-43BF-970E-37B644BD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0F7-D439-4D3B-950D-9C68745A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79F-1E2E-4CBB-A6CF-158B0655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27E-7DCA-4139-9674-887E93DA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D630-65B7-491D-87A7-534899FA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513-0B55-4CC9-9409-6CB61536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1BC-67D4-43D5-BB1A-664CC600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D499-1BA3-488B-B930-B6BA6C62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22E-34C6-495F-ACF1-7589668A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D8F-9B62-4816-BF41-B46E2753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876-45A5-4EE4-99ED-A0F30E20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209D-E788-475D-B9C9-4239B0FE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F01A-55F6-4399-835B-4593EF7B6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13400"/>
            <a:ext cx="8425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ВЕД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 занимаемся волейболом в специализированной детско-юношеской спортивной школе олимпийского резерва (СДЮСШОР) и играем за сборную города Сызрань. Волейбол – это спортивная командная игра, которая развивается с каждым годом все больше и больше как во всем мире, так и в нашей стране. У волейбола, как и у любого другого вида спорта, есть своя история. Нам захотелось узнать историю мирового, Российского и Сызранского волейбола. В своей работе  мы хотим рассказать о возникновении и развитии волейбола как об историческом виде спорта. Но также мы расскажем о развитии современного волейбола, так как это тоже является важной составной частью всей истори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2565360"/>
            <a:ext cx="4572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ЧТО ТАКОЕ ВОЛЕЙБО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олейбол — «ударять мяч с лёта» (также переводят как «летающий», «парящий»)— вид спорта, командная спортивная игра, в процессе которой две команды по 6 человек соревнуются на специальной площадке 9 Х 18 м, разделённой пополам сет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на высоте 2,43 м для мужских и 2,24 для женских соревнований), стремясь направить мяч на сторону соперника. Волейбол — неконтактный, комбинационный вид спорта, где каждый игрок имеет строгую специализацию на площадке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48360" y="220500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22040"/>
            <a:ext cx="5329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СТОРИЯ ВОЗНИКНОВЕНИЯ ВОЛЕЙБО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на волейбола — Соединенные Штаты Америки. Изобретателем волейбола считается Уильям Морган, преподаватель физического воспитания колледжа Ассоциации молодых христиан в городе Холиоке. 9 февраля 1895 года в спортивном зале он подвесил теннисную сетку на высоте 197 см, и его ученики, число которых на площадке не ограничивалось, стали перебрасывать через неё баскетбольную камеру. Морган назвал новую игру «минтонет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312732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3213000"/>
            <a:ext cx="3168720" cy="345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8000" y="3357720"/>
            <a:ext cx="5040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Годом позже игра демонстрировалась на конференции колледжей ассоциации молодых христиан в Спрингфилде и по предложению профессора Альфреда Хальстеда получила новое название — «волейбол». В 1916 г. были опубликованы первые правила волейбола.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В качестве основных были приняты американские правила с незначительными изменениями: мяча можно было касаться </a:t>
            </a: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всем телом выше пояса, после касания мяча на блоке игроку было запрещено повторное касание подря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57080" y="242100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Уильям Мор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70520" y="602136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ьфред Хальст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816360" cy="216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2421000"/>
            <a:ext cx="46432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РАЗВИТИЕ ВОЛЕЙБОЛА В ПОСЛЕВОЕННОЕ  ВРЕМ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В годы Великой Отечественной войны волейбол продолжали культивировать в воинских частях. Уже в 1943 году начинают оживать волейбольные площадки в тылу. С 1945 года возобновляются первенства СССР. После окончания Второй мировой войны (1939—1945) стали расширяться международные контакты. 18—20 апреля 1947 в Париже состоялся первый конгресс Международной федерации волейбола (FIVB) с участием представителей 14 стран. В 1949 году в Праге состоялся первый чемпионат мира среди мужских команд. ФИВБ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было внесено изменение в правилах игры — блокирующим разрешили переносить руки над сеткой на сторону соперника и повторно касаться мяча после блокир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115920"/>
            <a:ext cx="4716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ВОЛЕЙБОЛ ЗАВОЕВЫВАЕТ МИ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1900 игра стала известна в Канаде, в 1906 — на Кубе, в 1908 — в Японии, в 1910 — на Филиппинах, в Бирме, Индии и Китае; в 1913 была включена в программу первых Игр стран Юго-Восточной Азии в Маниле. В Европу волейбол был завезен в начале XX века. В 1914 г. в него начали играться в Англии. В особенности популярным волейбол становится во Франции, где возник в 1917 г. В 20-х годах он развивается в Польше, Чехословакии, СССР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новные правила игры сформировались в 1915-25. В странах Америки, Африки, Европы практиковался волейбол с шестью игроками на площадке; в Азии — с девятью или двенадцатью игроками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1920-х годах формируются главные технические приемы — подача, передачи, атакующий удар и блок. На их основе возникает тактика командных действий. В 1930-е годы появились групповой блок и страховка, варьировались атакующие и обманные уда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84720" y="4581360"/>
            <a:ext cx="230364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14840"/>
            <a:ext cx="84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ВОЛЕЙБОЛ В СОВРЕМЕННЫХ ОЛИМПИЙСКИХ ИГР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42800"/>
            <a:ext cx="40323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1964 волейбол был впервые включен в программу Олимпийских игр. Победителями женских олимпийских турниров становились: 1980, 1988 — СССР; 1984 — КНР; 1992, 1996, 2000 — Куба. Победители                                                            мужских олимпийских турниров: 1980 — ССС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4 и 1988 — США; 1992 — Бразилия; 1996 — Нидерланды, 2000 — Югославия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075280"/>
            <a:ext cx="9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27640" y="404640"/>
            <a:ext cx="4535280" cy="3097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35640" y="2997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88 год – Сеул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4105080" cy="320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00720" y="3573360"/>
            <a:ext cx="4392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 Олимпийских играх в 1980 году (Москва) наша сборная стала безусловным победителем, завоевав золотые медали и в мужской и в женской сборной. В 1988 году (Сеул) наша женская сборная также заняла 1 место, встретившись в финале со сборной США. В 2004 году (Афины) российские волейболисты заняли 3 место, обыграв американцев со счетом 3:0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0"/>
            <a:ext cx="856908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ЗВИТИЕ ВОЛЕЙБОЛА В РОСС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 отмечает издание «Всё о спорте» (1978), волейбол родился за океаном, но первое время был пасынком на американском континенте. «Подлинной его родиной стала наша страна. Именно в Советском Союзе волейбол приобрёл свои замечательные качества. Стал атлетичным, быстрым, манёвренным, каким мы его знаем сегодня». Официальной датой рождения отечественного волейбола принято считать 28 июня 1923 года, когда в Москве состоялся товарищеский матч волейболистов высших художественных и театральных мастерских и Государственной школы кинематографии. В 1932 году была образована всесоюзная волейбольная секция, а в 1933 году проведен первый Чемпионат СССР. В волейбол играли на улице, и на площадке могли находится люди разных лет. Соревнования на первенство СССР проводились исключительно на открытых площадках чаще всего после футбольных матчей по соседству со стадионами, а крупнейшие соревнования, такие как чемпионат мира 1952 года — на тех же стадионах при переполненных трибунах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 1947 году советские волейболисты вышли на международную арену. В 1959 году образована Федерация волейбола СССР. Первым олимпийским чемпионом в Токио-1964 также стала наша мужская сборная. Побеждала она и на Олимпиадах в Мехико (1968) и в Москве (1980). А женская сборная четырежды (1968, 1972, 1980 и 1988) завоёвывала титул олимпийских чемпионов. Советские волейболисты — 6-кратные чемпионы мира, 12-кратные Европы, 4-кратные победители Кубка ми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4508640"/>
            <a:ext cx="3529080" cy="216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7280" y="4437000"/>
            <a:ext cx="4392360" cy="2189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202640" y="6237360"/>
            <a:ext cx="42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Женская сборная России по волейболу 2009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9280" y="-3960"/>
            <a:ext cx="9144000" cy="36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ИССЛЕДОВАТЕЛЬСКАЯ РАБО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 занимаемся волейболом и заинтересовались, как развивался этот вид спорта в нашем городе. Мы  побеседовала со своим тренером Аврамовой Н. В., со старшим тренером Портновой Т. Н., с директором СДЮСШОР Хоревым Н. И. и с председателем федерации женского волейбола Кадышевым В. М.. Поговорив с этими людьми, мы узнали, что 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20 году в физкультурном кружке при клубе работников искусств – РАБИС стала развиваться игра в волейбол. Многим понравился этот динамичный и увлекательный вид спор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1928 года начинают проводиться городские соревнования. Спортивные общества: «Спартак», «Труд», «Урожай» развивают популярную игру с мячом. Сборные команды города участвуют в областных и республиканских соревнованиях, занимая ведущие места. Приятным событием в развитии городского волейбола стало создание в 1997 году женской команда «Чайка», на базе филиала Сбербанка России. Тренировал команду Милюков И. Ф. Эта команда стала безусловным победителем спартакиады. С тех пор спартакиада стала ежегодной традицией, также как победа в ней команды «Чайка». Эта команда и по сей день учувствует в различный городских и областных соревнован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5616720" cy="3567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5760"/>
            <a:ext cx="5832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ЖЕНСКИЙ ВОЛЕЙБ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звитие женского волейбола в нашем городе связано с именем Вадима Викторовича Азарова. Вадим Викторович воспитывал много прекрасных волейболисток, среди них есть победители и призеры областных республиканских соревнований. Многие воспитанницы Азарова играли и играют в профессиональных командах. Вадима Викторовича не стало в 1999 году, но память о нем по-прежнему жива. С 2000 года в Сызрани проводится Всероссийский турнир по волейболу среди девушек памяти В.В Аза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350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371640" y="3068640"/>
            <a:ext cx="256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Вадим Викторович Аза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19360" y="3357720"/>
            <a:ext cx="463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Сборная города Сызрани по волейболу (1994 г.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9280" y="4005360"/>
            <a:ext cx="3024360" cy="2158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419640" y="3933720"/>
            <a:ext cx="3240000" cy="2305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804000" y="3645000"/>
            <a:ext cx="2158920" cy="2736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732720" y="6021360"/>
            <a:ext cx="328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Алина Ярошик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капитан юношес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сборной Росс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98520" y="60930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аша кома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992680"/>
            <a:ext cx="9156600" cy="42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ИСПОЛЬЗУЕМАЯ ЛИТЕРАТУР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рические виды спорта – автор А. Потап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рестоматия по физической культуре – автор Н. Орлрва «Издательство  АС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ортивная Сызрань – автор М. В. Злотее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льшая энциклопедия Кирилла и Мефодия – компьютерная програм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ша спортивная страна – автор Е. М. Иванова издательство «Просвещение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тропология мудрости – автор В. Ю. Шойхер «Издательский дом «Веч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урнал воспитания школьника – автор А. М. Викторенко издательство «Дроф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 в защите – 6 в нападении – автор Булдакова Л. С., Никитин Л. П. издательство «Советская Росси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. Олимпийская энциклопедия – автор Ю. Визбор  издательство «Дроф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. Интернет ресурсы:  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port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lleybal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lleyball his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lleyball wikipedi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limpi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692280"/>
            <a:ext cx="79930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ЗАКЛЮЧ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Исходя из данного материала, можно сказать, что  волейбол – одна из наиболее распространенных игр  в  России.  Массовый, подлинно   народный   характер    волейбола    объясняется    его    высокой эмоциональностью и  доступностью,  основанной  на  простоте  правил  игры  и несложности  оборудования (площадка и мяч). Это делает волейбол игрой,  доступной  для людей всех возрастов. Также я считаю, что волейбол воспитывает волевые, моральные, индивидуальные качества человека, которые будут нужны ему в дальнейшей жизн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3:07:03Z</dcterms:created>
  <dc:creator>Admin</dc:creator>
  <dc:description/>
  <dc:language>en-US</dc:language>
  <cp:lastModifiedBy>Никитос</cp:lastModifiedBy>
  <dcterms:modified xsi:type="dcterms:W3CDTF">2010-12-13T18:59:11Z</dcterms:modified>
  <cp:revision>27</cp:revision>
  <dc:subject/>
  <dc:title>Слайд 1</dc:title>
</cp:coreProperties>
</file>